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1943-8457-4BB4-952A-0E0413ED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E5C-D846-442C-8CE8-6474FB3B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34B8-B07C-4D5E-9A70-4368D38E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DFD-19B3-4CE9-9952-46711610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7C27-0ED6-4ABF-83BA-73C9DADE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D4CF-399D-42D4-A568-70773547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D415-F00C-4B63-A056-0D2CC1DD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5A2C-3B5F-4D00-B9FD-019E589B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E018-D1C8-45E0-950A-00D3D31F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33E8-350F-4F93-B3DE-C3D1968A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AA2-3CC9-4CB2-BB71-4ECE2324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2A3-36E1-45CE-9610-BB4C84A1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2A15-78A5-45EA-A70E-3870A3B55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7 Náš Boh je moc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rstva Krá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znie stála Bohu chvála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Haleluj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ej chvále pripo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hl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lávme Pána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pája v jed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ratský kru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jedna viera jeden Du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znie stála Bohu chvála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Boh je moc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rstva Kr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ej celým sve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eň chvál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jemu patrí všetka č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života dar, spásy zv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znie stála Bohu chvála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Haleluj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všade chválospe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 hriešnik získ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ier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človekom sa st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práva Božích detí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znie stála Bohu chvála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Haleluj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otvorí náš zrak i slu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Božie slovo Svätý Du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m Duchom svoj ľu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die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buduje si v nás svoj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03:54Z</dcterms:modified>
  <cp:revision>29</cp:revision>
  <dc:subject/>
  <dc:title>Je veľký náš Pán, on slávy je Kráľ Nech do všetkých strán  spev vrúcnych znie chvál.</dc:title>
</cp:coreProperties>
</file>